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3.gif" ContentType="image/gi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25.wmf" ContentType="image/x-wmf"/>
  <Override PartName="/ppt/media/image24.wmf" ContentType="image/x-wmf"/>
  <Override PartName="/ppt/media/image21.wmf" ContentType="image/x-wmf"/>
  <Override PartName="/ppt/media/image19.jpeg" ContentType="image/jpeg"/>
  <Override PartName="/ppt/media/image22.jpeg" ContentType="image/jpeg"/>
  <Override PartName="/ppt/media/image1.jpeg" ContentType="image/jpeg"/>
  <Override PartName="/ppt/media/image18.wmf" ContentType="image/x-wmf"/>
  <Override PartName="/ppt/media/image15.gif" ContentType="image/gif"/>
  <Override PartName="/ppt/media/image17.wmf" ContentType="image/x-wmf"/>
  <Override PartName="/ppt/media/image16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639-6443-4089-B1EB-AA3BB5A0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FD2-79C8-49B6-A5F6-1893A351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06CD-9346-4EFE-B125-AAB7D51B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F220-10C6-4B33-A3D8-421E2831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194B-D6A5-4187-AB5D-E77D75E34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0ED6-379E-489A-8CA1-C9EACE30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A52F-6B7B-4754-994F-429E68C9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1539-7C76-4264-9E06-0ED1ED19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47D2F-1D7B-4131-8B55-9A52A3FE2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14BFE-DC64-403B-A1F6-36188CA5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B1A9-B194-4A68-9779-88D9E4F1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C8E-F49E-4734-84AA-AE535567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42C7-D61E-4EEC-BE0F-354D3C8B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2D34-C0A1-466D-A39B-397EB554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E57F-78DD-423E-B3F0-C908BD04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ACA8-C618-4805-8B41-C1961A0E0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06BC-FB0B-4A6A-8D4D-77436ECB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1324D-CD71-4BE1-BA4C-C76C66648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56B19-3035-479A-AB47-7153179D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46A36-61CF-4E18-840F-33CC61C8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F8445-61FF-43F4-9951-34CD3762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8F67E-193D-4A03-8099-F2C5ACBA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26B5-20A4-4C7E-A7DD-60E869B9E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772F8-59DD-4CCC-9D7B-D91CF02B2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27B61-569D-4797-AF4D-11F5E134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55E62-F9D0-4D91-8A03-BFD5D035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CCF0F-8818-4E4E-9707-B7D3FE85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CFEA8-E846-4F8E-BB38-F40B119C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905CE-4FBB-4203-8692-5E548D9A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71C20-2B27-4637-B2BF-364302E34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D83D1-7BB4-4967-AEED-FED94C015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9FDF0-F4AB-4F55-A3FF-5FD63AC9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56388-67D8-4C95-86F4-A4032EB3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D55A-834F-4333-B286-817F32E9E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E8C29-1F37-4918-852F-D233ADB7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9C3C0-88DA-48DA-967A-718575CD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BD802-B669-455A-9AFD-A25A896C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5E630-9235-4CDA-856E-2F0137D4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00360-7747-4FE4-9108-D3242BBB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2FE5D-49F1-4EB3-B4B7-8A36F79F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9994A-248D-4C78-A3AE-803555AF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25D3B-00F3-4708-AF35-04CA970D3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FB1E8-FEB1-4F29-AAA7-35537DF9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5C4A-B32F-46BD-AC4A-FEB11D96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5D8-9957-4DC3-AAF2-302F1531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0B4-BC98-4463-BA6D-1E8D8DA7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DCF-A22E-47AD-93B6-CBEA8A77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8C81-F1D3-43C7-8828-19B38D9E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20C6-A35A-4659-A489-8FD6B197E3F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24AF-AE49-4338-ACB6-BAED6BF59BC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759E-460D-4AB6-B3F3-2CAD509B9A8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18E3-F32A-4C16-B5AA-520B02C36F2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US I  5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TextBox 5"/>
          <p:cNvSpPr/>
          <p:nvPr/>
        </p:nvSpPr>
        <p:spPr>
          <a:xfrm>
            <a:off x="1371600" y="411480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ow have religious and economic events changed the world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6a3"/>
                </a:solidFill>
                <a:latin typeface="Constantia"/>
              </a:rPr>
              <a:t>What do you already know about Colonial Americ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Describe how religious and economic events have shaped colonial Americ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bd0d9"/>
                </a:solidFill>
                <a:latin typeface="Constantia"/>
              </a:rPr>
              <a:t>Identify specific colonies that were formed for religious reas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bd0d9"/>
                </a:solidFill>
                <a:latin typeface="Constantia"/>
              </a:rPr>
              <a:t>Identify specific colonies that were formed for economic reas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C:\Documents and Settings\ECPS-User\Local Settings\Temporary Internet Files\Content.IE5\AN5J0SYW\MC900193988[1].wmf"/>
          <p:cNvPicPr/>
          <p:nvPr/>
        </p:nvPicPr>
        <p:blipFill>
          <a:blip r:embed="rId1"/>
          <a:stretch/>
        </p:blipFill>
        <p:spPr>
          <a:xfrm>
            <a:off x="6400800" y="2590920"/>
            <a:ext cx="2944800" cy="3921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C:\Documents and Settings\ECPS-User\Local Settings\Temporary Internet Files\Content.IE5\AN5J0SYW\MC900295296[1].wmf"/>
          <p:cNvPicPr/>
          <p:nvPr/>
        </p:nvPicPr>
        <p:blipFill>
          <a:blip r:embed="rId2"/>
          <a:stretch/>
        </p:blipFill>
        <p:spPr>
          <a:xfrm>
            <a:off x="2286000" y="3733920"/>
            <a:ext cx="2286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olonies formed for religious reas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bd0d9"/>
                </a:solidFill>
                <a:latin typeface="Constantia"/>
              </a:rPr>
              <a:t>Plymou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bd0d9"/>
                </a:solidFill>
                <a:latin typeface="Constantia"/>
              </a:rPr>
              <a:t>Massachusetts Ba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bd0d9"/>
                </a:solidFill>
                <a:latin typeface="Constantia"/>
              </a:rPr>
              <a:t>Pennsylvan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C:\Documents and Settings\ECPS-User\Local Settings\Temporary Internet Files\Content.IE5\AN5J0SYW\MC900383192[1].wmf"/>
          <p:cNvPicPr/>
          <p:nvPr/>
        </p:nvPicPr>
        <p:blipFill>
          <a:blip r:embed="rId1"/>
          <a:stretch/>
        </p:blipFill>
        <p:spPr>
          <a:xfrm>
            <a:off x="2362320" y="1752480"/>
            <a:ext cx="1657080" cy="1625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C:\Documents and Settings\ECPS-User\Local Settings\Temporary Internet Files\Content.IE5\6B01K6VK\MC900013523[1].wmf"/>
          <p:cNvPicPr/>
          <p:nvPr/>
        </p:nvPicPr>
        <p:blipFill>
          <a:blip r:embed="rId2"/>
          <a:stretch/>
        </p:blipFill>
        <p:spPr>
          <a:xfrm>
            <a:off x="1828800" y="3962520"/>
            <a:ext cx="1219320" cy="635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C:\Documents and Settings\ECPS-User\Local Settings\Temporary Internet Files\Content.IE5\PAMHR9RU\MC900156891[1].wmf"/>
          <p:cNvPicPr/>
          <p:nvPr/>
        </p:nvPicPr>
        <p:blipFill>
          <a:blip r:embed="rId3"/>
          <a:stretch/>
        </p:blipFill>
        <p:spPr>
          <a:xfrm>
            <a:off x="2819520" y="4876920"/>
            <a:ext cx="182088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Colonies formed for economic reason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Roanoke Isla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Jamestow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Georg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2" descr="C:\Documents and Settings\ECPS-User\Local Settings\Temporary Internet Files\Content.IE5\VQ2LI6HE\MC900391034[1].wmf"/>
          <p:cNvPicPr/>
          <p:nvPr/>
        </p:nvPicPr>
        <p:blipFill>
          <a:blip r:embed="rId1"/>
          <a:stretch/>
        </p:blipFill>
        <p:spPr>
          <a:xfrm>
            <a:off x="1752480" y="5153040"/>
            <a:ext cx="990720" cy="120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C:\Documents and Settings\ECPS-User\Local Settings\Temporary Internet Files\Content.IE5\VQ2LI6HE\MC900197526[1].wmf"/>
          <p:cNvPicPr/>
          <p:nvPr/>
        </p:nvPicPr>
        <p:blipFill>
          <a:blip r:embed="rId2"/>
          <a:stretch/>
        </p:blipFill>
        <p:spPr>
          <a:xfrm>
            <a:off x="2666880" y="3429000"/>
            <a:ext cx="1524240" cy="140976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5"/>
          <p:cNvSpPr/>
          <p:nvPr/>
        </p:nvSpPr>
        <p:spPr>
          <a:xfrm>
            <a:off x="155520" y="-525600"/>
            <a:ext cx="11145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155520" y="-525600"/>
            <a:ext cx="11145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9" descr="C:\Documents and Settings\ECPS-User\Local Settings\Temporary Internet Files\Content.IE5\6B01K6VK\MC900383588[1].wmf"/>
          <p:cNvPicPr/>
          <p:nvPr/>
        </p:nvPicPr>
        <p:blipFill>
          <a:blip r:embed="rId3"/>
          <a:stretch/>
        </p:blipFill>
        <p:spPr>
          <a:xfrm>
            <a:off x="3657600" y="1709640"/>
            <a:ext cx="1143000" cy="11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fe in New Englan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Resour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Geography and Clim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pecia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nterdepen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ocial/ Politi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C:\Documents and Settings\ECPS-User\Local Settings\Temporary Internet Files\Content.IE5\VQ2LI6HE\MM900336468[1].gif"/>
          <p:cNvPicPr/>
          <p:nvPr/>
        </p:nvPicPr>
        <p:blipFill>
          <a:blip r:embed="rId1"/>
          <a:stretch/>
        </p:blipFill>
        <p:spPr>
          <a:xfrm>
            <a:off x="2514600" y="1908000"/>
            <a:ext cx="1066680" cy="787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C:\Documents and Settings\ECPS-User\Local Settings\Temporary Internet Files\Content.IE5\6B01K6VK\MP900447885[1].jpg"/>
          <p:cNvPicPr/>
          <p:nvPr/>
        </p:nvPicPr>
        <p:blipFill>
          <a:blip r:embed="rId2"/>
          <a:stretch/>
        </p:blipFill>
        <p:spPr>
          <a:xfrm>
            <a:off x="4419720" y="1752480"/>
            <a:ext cx="914400" cy="1360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C:\Documents and Settings\ECPS-User\Local Settings\Temporary Internet Files\Content.IE5\AN5J0SYW\MC900053446[1].wmf"/>
          <p:cNvPicPr/>
          <p:nvPr/>
        </p:nvPicPr>
        <p:blipFill>
          <a:blip r:embed="rId3"/>
          <a:stretch/>
        </p:blipFill>
        <p:spPr>
          <a:xfrm>
            <a:off x="3200400" y="3429000"/>
            <a:ext cx="13082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fe in the Mid-Atlantic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Resour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Geography and Clim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pecia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nterdepen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ocial/ Politi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2" name="Picture 1" descr="C:\Documents and Settings\ECPS-User\Local Settings\Temporary Internet Files\Content.IE5\AN5J0SYW\MC900441838[1].wmf"/>
          <p:cNvPicPr/>
          <p:nvPr/>
        </p:nvPicPr>
        <p:blipFill>
          <a:blip r:embed="rId1"/>
          <a:stretch/>
        </p:blipFill>
        <p:spPr>
          <a:xfrm>
            <a:off x="4495680" y="2286000"/>
            <a:ext cx="1822680" cy="1457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Documents and Settings\ECPS-User\Local Settings\Temporary Internet Files\Content.IE5\PAMHR9RU\MP900448688[1].jpg"/>
          <p:cNvPicPr/>
          <p:nvPr/>
        </p:nvPicPr>
        <p:blipFill>
          <a:blip r:embed="rId2"/>
          <a:stretch/>
        </p:blipFill>
        <p:spPr>
          <a:xfrm>
            <a:off x="6248520" y="3124080"/>
            <a:ext cx="1774800" cy="26672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Documents and Settings\ECPS-User\Local Settings\Temporary Internet Files\Content.IE5\AN5J0SYW\MP900444588[1].jpg"/>
          <p:cNvPicPr/>
          <p:nvPr/>
        </p:nvPicPr>
        <p:blipFill>
          <a:blip r:embed="rId3"/>
          <a:stretch/>
        </p:blipFill>
        <p:spPr>
          <a:xfrm>
            <a:off x="4267080" y="3962520"/>
            <a:ext cx="16257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fe in the South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Resour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Geography and Clim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pecializ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Interdependenc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Social/ Politi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1" descr="C:\Documents and Settings\ECPS-User\Local Settings\Temporary Internet Files\Content.IE5\6B01K6VK\MC900186290[1].wmf"/>
          <p:cNvPicPr/>
          <p:nvPr/>
        </p:nvPicPr>
        <p:blipFill>
          <a:blip r:embed="rId1"/>
          <a:stretch/>
        </p:blipFill>
        <p:spPr>
          <a:xfrm>
            <a:off x="5638680" y="2209680"/>
            <a:ext cx="1828800" cy="1555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C:\Documents and Settings\ECPS-User\Local Settings\Temporary Internet Files\Content.IE5\PAMHR9RU\MP900403590[1].jpg"/>
          <p:cNvPicPr/>
          <p:nvPr/>
        </p:nvPicPr>
        <p:blipFill>
          <a:blip r:embed="rId2"/>
          <a:stretch/>
        </p:blipFill>
        <p:spPr>
          <a:xfrm>
            <a:off x="3886200" y="3962520"/>
            <a:ext cx="3543480" cy="23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Social Groups of Colonial America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Large Landown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Farme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Artis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Wom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Free African America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dd9"/>
                </a:solidFill>
                <a:latin typeface="Constantia"/>
              </a:rPr>
              <a:t>Enslaved African Americans (Slav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1" name="Picture 1" descr="C:\Documents and Settings\ECPS-User\Local Settings\Temporary Internet Files\Content.IE5\VQ2LI6HE\MM900284168[1].gif"/>
          <p:cNvPicPr/>
          <p:nvPr/>
        </p:nvPicPr>
        <p:blipFill>
          <a:blip r:embed="rId1"/>
          <a:stretch/>
        </p:blipFill>
        <p:spPr>
          <a:xfrm>
            <a:off x="4495680" y="2209680"/>
            <a:ext cx="1257480" cy="12099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C:\Documents and Settings\ECPS-User\Local Settings\Temporary Internet Files\Content.IE5\PAMHR9RU\MC900128943[1].wmf"/>
          <p:cNvPicPr/>
          <p:nvPr/>
        </p:nvPicPr>
        <p:blipFill>
          <a:blip r:embed="rId2"/>
          <a:stretch/>
        </p:blipFill>
        <p:spPr>
          <a:xfrm>
            <a:off x="6172200" y="2362320"/>
            <a:ext cx="1684440" cy="1968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C:\Documents and Settings\ECPS-User\Local Settings\Temporary Internet Files\Content.IE5\AN5J0SYW\MC900155026[1].wmf"/>
          <p:cNvPicPr/>
          <p:nvPr/>
        </p:nvPicPr>
        <p:blipFill>
          <a:blip r:embed="rId3"/>
          <a:stretch/>
        </p:blipFill>
        <p:spPr>
          <a:xfrm>
            <a:off x="5715000" y="4724280"/>
            <a:ext cx="182556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22:15:43Z</dcterms:created>
  <dc:creator>ECPS-User</dc:creator>
  <dc:description/>
  <dc:language>en-US</dc:language>
  <cp:lastModifiedBy>ECPS-User</cp:lastModifiedBy>
  <dcterms:modified xsi:type="dcterms:W3CDTF">2010-10-06T23:16:10Z</dcterms:modified>
  <cp:revision>7</cp:revision>
  <dc:subject/>
  <dc:title>Colonial America</dc:title>
</cp:coreProperties>
</file>